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B51E-26E4-48D7-B81E-20657179F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9C20-FC9F-43C8-B121-002729A3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C08E-0F66-4D66-993B-BDC048C72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963E-B895-4182-ADF3-57937F385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94CB-08C4-4AA5-A31D-FB8D2B5B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950C-6214-48D9-A19C-38CD2614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8B7B-EDD6-4E2F-A3E3-E6C12DEC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D01F-5E40-484A-89FB-7E427213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6647-0109-4594-A646-3C396860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1CCC-A9E8-4383-A821-DC38DDC7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98F2-072B-47FC-9FC3-373E9040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0EE3-55E0-4290-A2AF-7353E5CE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F094-F123-43FD-A984-3F7A83308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CLINICAL TRIAL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858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858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816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CLINICAL TRIAL EXAMPLE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2565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90720" y="3200400"/>
            <a:ext cx="7391160" cy="762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990720" y="3962520"/>
            <a:ext cx="739116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620120" cy="5181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90720" y="2666880"/>
            <a:ext cx="739116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915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933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239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2388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162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5608800" cy="4267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657600" y="2743200"/>
            <a:ext cx="1600200" cy="1981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743200" y="2895480"/>
            <a:ext cx="774720" cy="1067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257800" y="2819520"/>
            <a:ext cx="1562040" cy="1676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6858000" y="2971800"/>
            <a:ext cx="1143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3733920"/>
            <a:ext cx="7391160" cy="2209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19320" y="838080"/>
            <a:ext cx="7391160" cy="2895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637080" y="2209680"/>
            <a:ext cx="1600200" cy="153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895480" y="2133720"/>
            <a:ext cx="546120" cy="761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5237280" y="2438280"/>
            <a:ext cx="1562040" cy="1179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7010280" y="2209680"/>
            <a:ext cx="92736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10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2388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09-29T14:54:14Z</dcterms:modified>
  <cp:revision>102</cp:revision>
  <dc:subject/>
  <dc:title>The Art in the State of the Art</dc:title>
</cp:coreProperties>
</file>